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9835-043E-4D69-9D26-09D227CC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95AB-41B9-46D8-B590-6FAE77BE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6A85-DD78-4BAE-8F94-9418C650C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E3E3-2E6D-4819-9D8A-7E41F5750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58B3-4869-4BDB-8D64-7C53D682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DF55-EAC8-4AE4-BCA0-D100A4DC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AC13D-3D44-4AFC-BEEC-C9259341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63A9-17C0-48E9-B17B-6DF09111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B2695-7C65-4E38-8589-A0B26D55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180C3-481B-4C8C-BB6F-961E7F66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3237-DA5C-411B-9839-093CDCCB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C2C4-3612-4990-82B0-F0AA0B14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C5CF-7A1D-4366-A182-7678C056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A809D-7651-43DD-BD2A-1D8D4D31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C79B9-D580-4866-BB97-2DD09E448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826D3-F869-4732-850F-BCB236381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B2AA-CAEE-4E9B-8625-CFB0B5B8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E0C7-794D-42EC-9E19-827974448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3AA3-4BC5-4B34-AD0E-811BAEDD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116C-4036-433C-B29F-62D4498D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DDB5-972C-45D7-B5AE-27CA29514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38BA-7628-4BDD-B5D7-508D1185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5D41-3B2A-4FE5-B67A-B7BAD6DF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CECF-33C7-43BE-93A3-97EDB103D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0F56-33D5-46B5-9851-2EF0361E35C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A6B0-33A4-489E-8C3A-78D4AFAA71B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cc66"/>
                </a:solidFill>
                <a:latin typeface="Arial"/>
              </a:rPr>
              <a:t>脑瘫儿童康复基础知识培训</a:t>
            </a:r>
            <a:endParaRPr b="0" lang="en-US" sz="7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352680" y="3733560"/>
            <a:ext cx="5486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——</a:t>
            </a:r>
            <a:r>
              <a:rPr b="1" lang="zh-CN" sz="28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广州</a:t>
            </a: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市青年志愿者协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Times New Roman"/>
                <a:ea typeface="楷体_GB2312"/>
              </a:rPr>
              <a:t>医疗服务总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训练歌谣示例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2</a:t>
            </a:r>
            <a:r>
              <a:rPr b="0" lang="zh-CN" sz="4400" spc="-1" strike="noStrike">
                <a:solidFill>
                  <a:srgbClr val="ffcc66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趴一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cc"/>
                </a:solidFill>
                <a:latin typeface="Times New Roman"/>
              </a:rPr>
              <a:t>一二三四五六七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cc"/>
                </a:solidFill>
                <a:latin typeface="Times New Roman"/>
              </a:rPr>
              <a:t>七六五四三二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cc"/>
                </a:solidFill>
                <a:latin typeface="Times New Roman"/>
              </a:rPr>
              <a:t>趴一阵、得吾得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cc"/>
                </a:solidFill>
                <a:latin typeface="Times New Roman"/>
              </a:rPr>
              <a:t>吾得都要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碰头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cc"/>
                </a:solidFill>
                <a:latin typeface="Times New Roman"/>
              </a:rPr>
              <a:t>我伸直手、我抬高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cc"/>
                </a:solidFill>
                <a:latin typeface="Times New Roman"/>
              </a:rPr>
              <a:t>姑娘同我碰头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9EE146C5D903733C883AD99A5AB9A3BC" descr=""/>
          <p:cNvPicPr/>
          <p:nvPr/>
        </p:nvPicPr>
        <p:blipFill>
          <a:blip r:embed="rId1"/>
          <a:stretch/>
        </p:blipFill>
        <p:spPr>
          <a:xfrm>
            <a:off x="5638680" y="4191120"/>
            <a:ext cx="2057400" cy="16761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0592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6600cc"/>
                </a:solidFill>
                <a:latin typeface="Arial"/>
                <a:ea typeface="方正舒体"/>
              </a:rPr>
              <a:t>习  题</a:t>
            </a:r>
            <a:br>
              <a:rPr sz="7200"/>
            </a:br>
            <a:r>
              <a:rPr b="1" lang="zh-CN" sz="4000" spc="-1" strike="noStrike">
                <a:solidFill>
                  <a:srgbClr val="ff6699"/>
                </a:solidFill>
                <a:latin typeface="Arial"/>
                <a:ea typeface="隶书"/>
              </a:rPr>
              <a:t>——</a:t>
            </a:r>
            <a:r>
              <a:rPr b="1" lang="zh-CN" sz="4000" spc="-1" strike="noStrike" u="sng">
                <a:solidFill>
                  <a:srgbClr val="ff6699"/>
                </a:solidFill>
                <a:uFillTx/>
                <a:latin typeface="Arial"/>
                <a:ea typeface="隶书"/>
              </a:rPr>
              <a:t>小朋友在过程中学习到什么呢？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38098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1.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如厕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7960" y="3809880"/>
            <a:ext cx="38098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2.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  <a:ea typeface="仿宋_GB2312"/>
              </a:rPr>
              <a:t>进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600200" y="4495680"/>
            <a:ext cx="1143000" cy="588960"/>
          </a:xfrm>
          <a:prstGeom prst="rect">
            <a:avLst/>
          </a:prstGeom>
        </p:spPr>
        <p:txBody>
          <a:bodyPr wrap="none" lIns="91800" rIns="91800" anchor="ctr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宋体"/>
              </a:rPr>
              <a:t>WC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E01023_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3408480" cy="3254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ffcc66"/>
                </a:solidFill>
                <a:latin typeface="Arial"/>
                <a:ea typeface="幼圆"/>
              </a:rPr>
              <a:t>医学病理</a:t>
            </a: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ccff99"/>
                </a:solidFill>
                <a:latin typeface="Arial"/>
                <a:ea typeface="MingLiU"/>
              </a:rPr>
              <a:t>小儿脑瘫定义</a:t>
            </a:r>
            <a:br>
              <a:rPr sz="8000"/>
            </a:br>
            <a:endParaRPr b="0" lang="en-US" sz="8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Verdana"/>
              </a:rPr>
              <a:t>脑瘫是指由于出生前、出生时、婴儿早期的某些原因造成的非进行性脑损伤所致的综合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388620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Arial"/>
              </a:rPr>
              <a:t>主要表现：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幼圆"/>
              </a:rPr>
              <a:t>中枢性运动障碍及姿势异常</a:t>
            </a: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幼圆"/>
              </a:rPr>
              <a:t>,</a:t>
            </a: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幼圆"/>
              </a:rPr>
              <a:t>症状在婴儿期出现</a:t>
            </a: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幼圆"/>
              </a:rPr>
              <a:t>,</a:t>
            </a: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幼圆"/>
              </a:rPr>
              <a:t>可伴有</a:t>
            </a: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幼圆"/>
              </a:rPr>
              <a:t>(</a:t>
            </a: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幼圆"/>
              </a:rPr>
              <a:t>或不伴有</a:t>
            </a: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幼圆"/>
              </a:rPr>
              <a:t>)</a:t>
            </a:r>
            <a:r>
              <a:rPr b="1" lang="zh-CN" sz="4000" spc="-1" strike="noStrike">
                <a:solidFill>
                  <a:srgbClr val="ff6699"/>
                </a:solidFill>
                <a:latin typeface="Times New Roman"/>
                <a:ea typeface="幼圆"/>
              </a:rPr>
              <a:t>智力低下、癫痫、行为异常及感知觉障碍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3962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Verdana"/>
                <a:ea typeface="华文新魏"/>
              </a:rPr>
              <a:t>临床表现：</a:t>
            </a:r>
            <a:br>
              <a:rPr sz="4800"/>
            </a:b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838080" y="1600200"/>
          <a:ext cx="7620120" cy="5051520"/>
        </p:xfrm>
        <a:graphic>
          <a:graphicData uri="http://schemas.openxmlformats.org/drawingml/2006/table">
            <a:tbl>
              <a:tblPr/>
              <a:tblGrid>
                <a:gridCol w="7620120"/>
              </a:tblGrid>
              <a:tr h="505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ff00"/>
                          </a:solidFill>
                          <a:latin typeface="Verdana"/>
                          <a:ea typeface="仿宋_GB2312"/>
                        </a:rPr>
                        <a:t>1 </a:t>
                      </a:r>
                      <a:r>
                        <a:rPr b="1" lang="zh-CN" sz="3600" spc="-1" strike="noStrike">
                          <a:solidFill>
                            <a:srgbClr val="00ff00"/>
                          </a:solidFill>
                          <a:latin typeface="Verdana"/>
                          <a:ea typeface="仿宋_GB2312"/>
                        </a:rPr>
                        <a:t>运动发育落后：</a:t>
                      </a:r>
                      <a:r>
                        <a:rPr b="1" lang="zh-CN" sz="2400" spc="-1" strike="noStrike">
                          <a:solidFill>
                            <a:srgbClr val="00ff00"/>
                          </a:solidFill>
                          <a:latin typeface="Verdana"/>
                          <a:ea typeface="仿宋_GB2312"/>
                        </a:rPr>
                        <a:t>１００天不能抬头</a:t>
                      </a:r>
                      <a:r>
                        <a:rPr b="1" lang="zh-CN" sz="2400" spc="-1" strike="noStrike">
                          <a:solidFill>
                            <a:srgbClr val="00ff00"/>
                          </a:solidFill>
                          <a:latin typeface="Verdana"/>
                          <a:ea typeface="仿宋_GB2312"/>
                        </a:rPr>
                        <a:t>;4</a:t>
                      </a:r>
                      <a:r>
                        <a:rPr b="1" lang="zh-CN" sz="2400" spc="-1" strike="noStrike">
                          <a:solidFill>
                            <a:srgbClr val="00ff00"/>
                          </a:solidFill>
                          <a:latin typeface="Verdana"/>
                          <a:ea typeface="仿宋_GB2312"/>
                        </a:rPr>
                        <a:t>个月后拇指向收</a:t>
                      </a:r>
                      <a:r>
                        <a:rPr b="1" lang="zh-CN" sz="2400" spc="-1" strike="noStrike">
                          <a:solidFill>
                            <a:srgbClr val="00ff00"/>
                          </a:solidFill>
                          <a:latin typeface="Verdana"/>
                          <a:ea typeface="仿宋_GB2312"/>
                        </a:rPr>
                        <a:t>,</a:t>
                      </a:r>
                      <a:r>
                        <a:rPr b="1" lang="zh-CN" sz="2400" spc="-1" strike="noStrike">
                          <a:solidFill>
                            <a:srgbClr val="00ff00"/>
                          </a:solidFill>
                          <a:latin typeface="Verdana"/>
                          <a:ea typeface="仿宋_GB2312"/>
                        </a:rPr>
                        <a:t>手张不开</a:t>
                      </a:r>
                      <a:r>
                        <a:rPr b="1" lang="zh-CN" sz="2400" spc="-1" strike="noStrike">
                          <a:solidFill>
                            <a:srgbClr val="00ff00"/>
                          </a:solidFill>
                          <a:latin typeface="Verdana"/>
                          <a:ea typeface="仿宋_GB2312"/>
                        </a:rPr>
                        <a:t>;5</a:t>
                      </a:r>
                      <a:r>
                        <a:rPr b="1" lang="zh-CN" sz="2400" spc="-1" strike="noStrike">
                          <a:solidFill>
                            <a:srgbClr val="00ff00"/>
                          </a:solidFill>
                          <a:latin typeface="Verdana"/>
                          <a:ea typeface="仿宋_GB2312"/>
                        </a:rPr>
                        <a:t>个月后不会伸手抓物……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2 </a:t>
                      </a:r>
                      <a:r>
                        <a:rPr b="1" lang="zh-CN" sz="36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主动活动减少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6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3 </a:t>
                      </a:r>
                      <a:r>
                        <a:rPr b="1" lang="zh-CN" sz="36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反射异常：</a:t>
                      </a:r>
                      <a:r>
                        <a:rPr b="1" lang="zh-CN" sz="32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原始反射延迟消失</a:t>
                      </a:r>
                      <a:r>
                        <a:rPr b="1" lang="zh-CN" sz="32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;</a:t>
                      </a:r>
                      <a:r>
                        <a:rPr b="1" lang="zh-CN" sz="32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保护性反射减弱或不出现。如坐位时</a:t>
                      </a:r>
                      <a:r>
                        <a:rPr b="1" lang="zh-CN" sz="32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向各方向推患儿</a:t>
                      </a:r>
                      <a:r>
                        <a:rPr b="1" lang="zh-CN" sz="32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00ff00"/>
                          </a:solidFill>
                          <a:latin typeface="Verdana"/>
                        </a:rPr>
                        <a:t>患儿不会用手支撑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9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3581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Verdana"/>
                <a:ea typeface="华文新魏"/>
              </a:rPr>
              <a:t>临床表现：</a:t>
            </a: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Verdana"/>
              </a:rPr>
              <a:t>4 </a:t>
            </a:r>
            <a:r>
              <a:rPr b="1" lang="zh-CN" sz="3600" spc="-1" strike="noStrike">
                <a:solidFill>
                  <a:srgbClr val="00ff00"/>
                </a:solidFill>
                <a:latin typeface="Verdana"/>
              </a:rPr>
              <a:t>肌张力异常及姿势异常。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3200"/>
            </a:b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·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直立位下肢内旋伸直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足下垂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双腿交叉呈剪刀状。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·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从仰卧到坐起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头后倾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下肢伸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足屈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躯干后伸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伸肌张力增高。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·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仰卧位伸肌张力增高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颈向后伸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下肢伸或交叉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双手拿不到前方正中位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呈角弓反张性躯干伸展。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·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俯卧位屈肌张力增高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不能抬头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臀抬起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肩着床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四肢屈曲。</a:t>
            </a:r>
            <a:br>
              <a:rPr sz="2800"/>
            </a:b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·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头向一侧偏时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同侧上肢伸直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对侧上肢屈曲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,</a:t>
            </a: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呈射箭状</a:t>
            </a:r>
            <a:r>
              <a:rPr b="1" lang="zh-CN" sz="2400" spc="-1" strike="noStrike">
                <a:solidFill>
                  <a:srgbClr val="00ff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879A452AABB2E9C1F0D2379331DE393E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1447920" cy="1981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cc66"/>
                </a:solidFill>
                <a:latin typeface="Arial"/>
                <a:ea typeface="幼圆"/>
              </a:rPr>
              <a:t>脑瘫的综合康复</a:t>
            </a:r>
            <a:br>
              <a:rPr sz="6600"/>
            </a:br>
            <a:r>
              <a:rPr b="1" i="1" lang="zh-CN" sz="6600" spc="-1" strike="noStrike">
                <a:solidFill>
                  <a:srgbClr val="ffcc66"/>
                </a:solidFill>
                <a:latin typeface="Arial"/>
                <a:ea typeface="幼圆"/>
              </a:rPr>
              <a:t> </a:t>
            </a:r>
            <a:br>
              <a:rPr sz="6600"/>
            </a:b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76720" y="533520"/>
            <a:ext cx="5410080" cy="167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2701"/>
              </a:spcBef>
              <a:spcAft>
                <a:spcPts val="20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c66"/>
                </a:solidFill>
                <a:latin typeface="Arial"/>
                <a:ea typeface="PMingLiU"/>
              </a:rPr>
              <a:t>1 </a:t>
            </a:r>
            <a:r>
              <a:rPr b="1" lang="zh-CN" sz="5400" spc="-1" strike="noStrike">
                <a:solidFill>
                  <a:srgbClr val="ffcc66"/>
                </a:solidFill>
                <a:latin typeface="Arial"/>
                <a:ea typeface="PMingLiU"/>
              </a:rPr>
              <a:t>医疗康复</a:t>
            </a:r>
            <a:r>
              <a:rPr b="1" lang="zh-CN" sz="5400" spc="-1" strike="noStrike">
                <a:solidFill>
                  <a:srgbClr val="ffcc66"/>
                </a:solidFill>
                <a:latin typeface="Arial"/>
              </a:rPr>
              <a:t>：</a:t>
            </a:r>
            <a:br>
              <a:rPr sz="5400"/>
            </a:br>
            <a:endParaRPr b="0" lang="en-US" sz="5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新宋体"/>
              </a:rPr>
              <a:t>1</a:t>
            </a: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新宋体"/>
              </a:rPr>
              <a:t>）药物疗法：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肌紧张松弛剂</a:t>
            </a:r>
            <a:r>
              <a:rPr b="0" lang="zh-CN" sz="32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PMingLiU"/>
              </a:rPr>
              <a:t>2</a:t>
            </a: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PMingLiU"/>
              </a:rPr>
              <a:t>）物理疗法：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水疗、电疗</a:t>
            </a:r>
            <a:r>
              <a:rPr b="0" lang="zh-CN" sz="32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PMingLiU"/>
              </a:rPr>
              <a:t>3</a:t>
            </a: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PMingLiU"/>
              </a:rPr>
              <a:t>）中医疗法：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中药、针灸</a:t>
            </a:r>
            <a:r>
              <a:rPr b="0" lang="zh-CN" sz="32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PMingLiU"/>
              </a:rPr>
              <a:t>4</a:t>
            </a: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PMingLiU"/>
              </a:rPr>
              <a:t>） 外科疗法：</a:t>
            </a: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手术</a:t>
            </a:r>
            <a:r>
              <a:rPr b="0" lang="zh-CN" sz="3200" spc="-1" strike="noStrike">
                <a:solidFill>
                  <a:srgbClr val="ff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HM00163_" descr=""/>
          <p:cNvPicPr/>
          <p:nvPr/>
        </p:nvPicPr>
        <p:blipFill>
          <a:blip r:embed="rId1"/>
          <a:stretch/>
        </p:blipFill>
        <p:spPr>
          <a:xfrm>
            <a:off x="1523880" y="3733920"/>
            <a:ext cx="20764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66"/>
                </a:solidFill>
                <a:latin typeface="Arial"/>
                <a:ea typeface="华文彩云"/>
              </a:rPr>
              <a:t>家庭社区康复</a:t>
            </a:r>
            <a:endParaRPr b="0" lang="en-US" sz="6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方正姚体"/>
              </a:rPr>
              <a:t>大、小肌肉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按摩、运动锻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方正姚体"/>
              </a:rPr>
              <a:t>认知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概念认识、理解能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方正姚体"/>
              </a:rPr>
              <a:t>沟通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达自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方正姚体"/>
              </a:rPr>
              <a:t>自理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力所能及的生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方正姚体"/>
              </a:rPr>
              <a:t>技能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掌握方法、技巧、懂得操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  <a:ea typeface="方正姚体"/>
              </a:rPr>
              <a:t>社交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与同伴活动，建立友谊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bc</cp:lastModifiedBy>
  <dcterms:modified xsi:type="dcterms:W3CDTF">2004-10-06T05:29:03Z</dcterms:modified>
  <cp:revision>4</cp:revision>
  <dc:subject/>
  <dc:title>PowerPoint Presentation</dc:title>
</cp:coreProperties>
</file>